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6A183-011E-4E4B-BA7F-82AA639B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2E7AE-78BC-4EE9-9916-CED75C8F8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4BE17-F842-455C-A2BA-5769F94DC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2F9A3-530C-4DF5-A6B8-1FB32E50F3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8f8f8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E6783-093E-47CD-A90E-95ABC2B66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Neki od ključnih aspekata oralnog zdravlja u vrtićima uključuj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Edukacija o oralnom zdravlju: Deca u vrtićima trebaju biti edukovana o značaju oralne higijene, kao i o tome kako pravilno održavaju oralnu higij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Osiguravanje pristupačne zubne higijene: Vrtići trebaju osigurati da deca imaju pristup četkicama za zube i drugim pomoćnim sredstvima za oralnu higijenu, kao i da se ti alati često menjaj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Saradnja sa stomatologima: Vrtići bi trebali sarađivati sa stomatolozima kako bi se osigurala redovna kontrola oralnog zdravlja dece i pružila adekvatna zdravstvena zašt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Integracija oralnog zdravlja u svakodnevne aktivnosti: Vrtići bi trebali uključiti teme o oralnom zdravlju u svakodnevne aktivnosti, kao što su igre i radionice, kako bi se jačala svest i osiguralo dugotrajno usvajanje zdravih navi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ovećanje svesti roditelja: Vrtići bi takođe trebali raditi na povećanju svesti roditelja o važnosti oralnog zdravlja i kako ga podržati kod d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F2631-5BA6-4FE9-AF49-EE767213B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Vaspitači igraju ključnu ulogu u promociji oralnog zdravlja u vrtićima. Neki od značaja vaspitača uključuj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Edukacija dece: Vaspitači su prvi kontakt dece s informacijama o oralnom zdravlju i oni su odgovorni za pružanje informacija i objašnjenja dečjim jezik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odrška zdravim navikama: Vaspitači su odgovorni za osiguravanje da se zdrave navike oralne higijene praktikuju u vrtiću, uključujući često pranje zu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ovećanje svesti: Vaspitači mogu pomoći u povećanju svesti dece i roditelja o važnosti oralnog zdravlja i korišćenju zdravih navi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Saradnja sa stomatolozima: Vaspitači mogu sarađivati sa stomatolozima kako bi se osigurala redovita kontrola oralnog zdravlja dece i pružila adekvatna zdravstvena zašt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Integracija tema o oralnom zdravlju u svakodnevne aktivnosti: Vaspitači mogu uključiti teme o oralnom zdravlju u svakodnevne aktivnosti, kao što su igre i radionice, kako bi se jačala svest i osiguralo dugotrajno usvajanje zdravih navi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37C1B-D664-45D3-BE04-AA99CEFCF2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E18A5-93AC-432A-9E68-FCD389E0D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41BAE-52EC-46A8-938E-BA6F6CE813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AB4D9-C1F9-45CD-ACF5-CADBF2D46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C45EF-9689-4150-B21E-B285EC267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DFB50-4BA3-40FF-9F0B-5BEED3C6B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53B39-072E-4EE9-93A8-710873B2E6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D2690-C315-424A-B069-74498E8250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30C-98F2-4E0C-8A90-4B54ABDF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718-D669-4D82-A3BE-74C658DA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466-16A5-43CA-AB2B-6155B590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E3C-3A00-432D-A180-2251A898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061-0252-4EDC-B403-9FA1870B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8AE-E210-4C65-AA72-9E2E79B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4AE-08F2-4175-B641-350606C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201-3088-4BBA-8233-87BB078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EAD-F7D7-450E-9240-FE4EFF84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92D-7B92-4ECC-A06A-435F8FE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B48-0457-40FD-B88D-5A0CA6E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AF9-0206-4323-B8B8-1949A4A4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C9A45-B2A1-4022-A15E-1F5AAE5A73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PROMOCIJA ORALNOG ZDRAVLJA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9596520" y="138240"/>
            <a:ext cx="23065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IMENA U PRAKS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dabir najefikasnijeg modela za promociju oralnog zdravlja zavisi od mnogih faktora, uključujući kulturu, ekonomske resurse, raspoložive tehnologije i infrastrukturu, i druge specifične okolnosti u zajednic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 praksi, najčešće se koriste kombinacije različitih modela u promociji oralnog zdravlj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DABIR MODELA ZAVIS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Ciljne popul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Resur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ostupno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ORALNO ZDRAVLJE I VRTIĆ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63640" y="1994040"/>
            <a:ext cx="6794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dukacija o oralnom zdravl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siguravanje pristupačne zubne higije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aradnja sa stomatoloz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ntegracija oralnog zdravlja u svakodnevne aktivno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većanje svesti roditel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ZNAČAJ VASPITAČ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dukacija de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drška zdravim navika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većanje sve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aradnja sa stomatoloz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ntegracija tema o oralnom zdravlju u svakodnevne aktivno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000000"/>
                </a:solidFill>
                <a:latin typeface="Trebuchet MS"/>
              </a:rPr>
              <a:t>ORALNO ZDRAVL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00000" y="1770120"/>
            <a:ext cx="71517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ralno zdravlje obuhvata zdravlje usta, zuba, desni, jezika i drugih delova usne šupljine. Ono igra ključnu ulogu u održavanju opšteg zdravlja, a loše oralno zdravlje može uticati na fizičko i emocionalno zdravl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zroci lošeg oralnog zdravlja su često povezani sa neadekvatnom higijenom usta, lošim navikama u ishrani kao što su često konzumiranje slatkiša i gaziranih napitaka, te pušenje i zloupotreba alkohol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OMO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63640" y="1511280"/>
            <a:ext cx="7327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mocija oralnog zdravlja podrazumeva adekvatnu higijenu usta i zuba, uravnoteženu ishranu, redovne kontrole kod stomatologa i edukaciju o značaju oralnog zdravlj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ljučno za uspešnu promociju oralnog zdravlja je uključivanje svih sektora društva, uključujući predškolske ustanove i škol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ODELI PROMO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78920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odel individualnog ponaša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odel zdravstvene eduk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odel uključivanja zajedn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odel komunikacijskih strateg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74880" y="1828800"/>
            <a:ext cx="63972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990720" y="262080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971640" y="339084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1012680" y="4154400"/>
            <a:ext cx="636840" cy="638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ODEL INDIVIDULANOG PONAŠAN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vaj model podržava pojedince u razvijanju zdrave oralne higijene kroz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Edukaciju o pravilnoj tehnici pranja zuba, korišćenju pomoćnih sredstava za oralnu higijen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Informisanje o štetnosti pušenja i zloupotrebe alkohola za oralno zdravlj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romociju zdrave ishrane koja sadrži dovoljno hranljivih sastojaka koji su potrebni za zdravlje usta i zu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ovećanje svesti o značaju redovnih kontrola stomatolog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ODEL ZDRAVSTVENE EDUKA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vaj model podržava promociju oralnog zdravlja kroz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Edukaciju u školama, na radnom mestu i u zajednic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ovećanje svesti o važnosti redovnih poseta stomatolog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odršku stomatologa i zdravstvenih radnika u promociji oralnog zdravlj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Informisanje o zdravstvenim rizicima i konsekvencama neadekvatne oralne higije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vaj model podržava zajednicu u promociji oralnog zdravlja kroz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Razvijanje partnerskih odnosa između stomatologa, zdravstvenih radnika i zajedn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Edukaciju zajednice o pravilnoj oralnoj higijeni i zdrave ishra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Uključivanje zajednice u planiranje oralne zdravstvene politik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Povećanje svesti o važnosti oralnog zdravlja i preventivne zdravstvene zašti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Osnaživanje zajednice da preuzme odgovornos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ODEL UKLJUČIVANJA ZAJEDNI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ODEL KOMUNIKACIJSKIH STRATEG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863640" y="195588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munikacijske strategije koje se koriste u ovom modelu uključuju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Mass medije: oglašavanje putem televizije, radija, novina i društvenih mrež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Edukaciju putem školskih programa i aktivnos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Radionice i seminar za zajednic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Informiranje javnosti kroz zdravstvene kampanje i događaj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Courier New"/>
              <a:buChar char="o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1800" spc="-1" strike="noStrike">
                <a:solidFill>
                  <a:srgbClr val="f8f8f8"/>
                </a:solidFill>
                <a:latin typeface="Trebuchet MS"/>
              </a:rPr>
              <a:t>Korisne informacije putem interneta i knjig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DRUŠTVENE MREŽ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863640" y="1955880"/>
            <a:ext cx="6858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mogućavaju brzu i široku dostupnost informacija o oralnom zdravlju širokom spektru ciljne populacije, uključujući i one sa ograničenim pristupom informacijama ili uslugama stomatološke zdravstvene zašti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mogućavaju interakciju i razmjenu informacija između stručnjaka za oralno zdravlje i javnosti, čime se povećava svest i razumevanje važnosti oralnog zdravlj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45e44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Pažljivo pristupiti njihovoj upotrebi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9:51:30Z</dcterms:modified>
  <cp:revision>520</cp:revision>
  <dc:subject/>
  <dc:title>RTG U DEČJOJ STOMATOLOGIJI</dc:title>
</cp:coreProperties>
</file>